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D3183A-EDEC-4A07-9369-36F2940F3AE9}" type="datetime">
              <a:rPr b="0" i="1" lang="en-US" sz="1000" spc="-1" strike="noStrike">
                <a:solidFill>
                  <a:srgbClr val="000000"/>
                </a:solidFill>
                <a:latin typeface="Arial"/>
              </a:rPr>
              <a:t>07/31/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62883DF-EA63-48F3-A315-FAAB30D6A53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27322A-4A09-4D11-BBD9-73FDA245C3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E53E5-8726-4804-AD74-4A5A236556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328BF-4FDC-4B27-A65D-54E4D10F4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4F9E2A-113A-4A88-91D0-97AF9D0299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B5417-6A25-49A7-B670-6F5A3E364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4943C-4B87-446C-9249-F1CC376C6C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A1DE4D-F187-412B-A227-182D5C33D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06955-458D-4167-8DCC-31467F91F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EAA0CA-FD8F-4CFB-AAA8-42457518F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BDB1D9-676E-45B3-B800-9E5EF00B5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5FA4E7-9B37-4F54-9645-2F85ED1C93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1F4A0F-FC32-4545-8EBC-60970065F7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DF07D-B512-44B7-A846-3ABA28A446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50DA4-38DA-4D75-AE68-1CCFE7A608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