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07/16/9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##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these performance degrading op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 /etc/passwd fi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lain magic script usage; explain strict locking, reference items such as MS Access file locking and similar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sonal notes on the abundance of user/developer feedback, describe personal experiences on questions and answer sessions, direct developer su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8C0B0-6AD9-4313-9EF1-5350BF4D1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624A-DC36-4FCF-B1CD-DF6DBF5D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A8DC-D722-41F6-BE4C-E7A03B0D4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A4F3-30EA-41ED-B231-713D9DE6B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C2CD-4AAB-4CF0-B80B-BD8A3524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9CDE8-3447-4F57-8995-F6800188F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05575-B623-4A18-96A3-D1D141A45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03706-D04A-4F50-99F9-433180ABF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EC166-B9E6-466B-8727-DE95F5391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1E04-A6D2-496C-AB9D-7B626B9B4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4AF4F-3FD9-4387-BF4F-46D87A4D9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32D7-953D-433C-8200-01BDE41FF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515BF-084A-45BF-907E-25184DFB9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6E64-6F94-4BEB-9F04-7ED82CA1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339C-0A95-40F4-BCC0-8A3AC7836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16BB1-4A30-438C-8E10-07871AD52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1ED2F-D1F1-4234-82FA-14ACA5123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3643-5A2B-410C-8F95-8DD152AE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36CC0-6D54-439F-A552-328E7CEA6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5042-A0B6-4F64-A469-DD0250CED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2473-4575-494B-A234-5CDE33864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78E0-3B6D-4066-A18D-D96299F8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79BB-53C7-4EF1-B414-B066B768A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8FCF-FB73-4F6A-8E32-13979186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CAA63-2C93-46E5-B5F8-B33D1D21F9FD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1BFC-5EAE-42D2-9A03-D0505F2BA0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A550D-9DFD-4851-9A54-48C41107D4B4}" type="datetime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94C2E-89ED-4FAE-B10F-414F7C1C09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amba Integra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rian Robers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LUG meeting, April 1999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A76E64A0-2535-476F-9D32-B075CF514DA3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73D15-DA84-4396-85E3-AE23E2DB522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erv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another SMB server for authentic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query fails, reverts to security = 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encrypted passwords were negotiated, will not revert to use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4D720-8451-444C-A03C-AEE747567C3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C9E45C-8D04-4F9A-A30E-B5D3CB4297F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domai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ill only work if `smbpasswd` was used to add machine to a 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nly accepts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alidates users exactly the same as NT does, against a PDC or BDC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urrent problem with multi-byte character set usernam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D453E4-C807-4E84-98CA-CFC8851EBD92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nfiguration File Layou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pecial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ice Section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F0613-C9F4-4BDF-A0B2-6839289B0024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pecial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global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home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[printers] Sec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9C9525-74A6-4E7E-A99D-7967DE78E6C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global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Options apply to server as a who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ny service parameter can be specified in the global section, they will serve as the ‘default’ for all servic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ad time &amp; keep alive, widelinks &amp; getwd cache, socket options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434613-58E7-44E0-9E9B-D65D726CFA6C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home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hen connection request is made, If no match is found, its treated as a username and looked up in the local /etc/password file 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guest access is specified, all home directories are visi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2159A7-2A1E-4D92-82E4-0BEF00818287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[printers] Sectio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nection sequence; scan existing sections, if [homes] section exists, used as previously described, request then treated as printer name and appropriate printcap file is scanned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e to use `lpstat` in place of /etc/printcap ( SYSV / LPRng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CC614B-546D-4AAF-8F33-0C9F914C5235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rdinary Section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common Service Parameter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D71C9E-2D46-40A1-946A-BD103DBE85C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Integration Of Samb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Authentication schem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figuration File Layou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s ( Services 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C04807-6E88-4F5A-9650-5A12775CEBCA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whatever you want to show up as a comment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synonym for “guest ok” ( allow this share to be readable by other than valid users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ublic = no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se people are allowed to read (open)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name1, name 2, @group2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these people are in @group2 but we don’t want to give them acces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invalid users = name3, name5, @group1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llow this service to be written to, by valid 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is is not a printable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who is allowed to write to this servic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e list = name1, @group2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the next two options are to change the Unix modes when files/directories are made.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file creation ( we want the group to be able to edit it )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create mode = 0660 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Unix mode forced for EVERY directory made in this share 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( we want the group to be able to get it/change it, and world `cd`abl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force directory mode = 077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219C6E-8654-455C-8A51-8A1843347DD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[servicename2]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omment = servicename2, put you want he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ath = /path/to/the/directory/you/want/to/share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guest ok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valid users = @user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writable = y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printable = no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after mapping from DOS modes to UNIX permissions, bit-wise `AND`ed  the permissions with these values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default create mask is: 0744 , default directory create mask is: 0755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#  e.g. we want these to be read/written/viewed by user only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directory create mask = 0700</a:t>
            </a:r>
            <a:endParaRPr b="0" lang="en-US" sz="1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ED6A1D-5FD6-439D-89EA-79C5F8F470F9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common Service Paramet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lete readonly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veto fil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styp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magic scrip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trict lockin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DF7B4-BB60-4134-AB7B-6ADD55F5D51B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QUESTIONS &amp; ANSWER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 are your frien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enty of online documentatio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ossibly the best user/developer suppor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55444-EFA8-4539-9543-3ADD2D72B22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ferenc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http://www.samba.org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an pag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cumentation in the source cod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AB0995-EC5F-4988-B5CF-4562F472EA6F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omain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89DAEA-0951-45F4-94D3-AB28D5F1FCF0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0284ED-251A-4BAB-8D5C-7873417F73A8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shar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revious versions, this was defaul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amba always uses a valid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ral techniques to determine UNIX 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If user cant be determined, the “guest” account if supplied gets use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E65D88-0370-4F43-A79A-09F8D44E30E6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thentication Schem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6DA53D-1624-4F3F-A554-63F46F18D41E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security = us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efault selection in 2.0.x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r must “logon” to gain access to a sha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Encrypted passwords*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*see next two slid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771B2-6D39-43F9-B91C-49C2E31A226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eparate password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assword storage is not one way crypt like standard UNIX /etc/passw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W95 OSR2, NT4sp3 &amp; up, default’s to only send encrypted password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lain text passwords are never sent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12100A-19D9-4C8F-B2B9-BE2D59CEF3B1}" type="datetime1">
              <a:rPr lang="en-US"/>
              <a:t>07/28/26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Unencrypted Password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ust use special registry entry on client (win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ses /etc/passwd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nds plain text passwords over the network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nsure if future win-X will support this fea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C92667-765E-4E92-9497-535E2897BB30}" type="datetime1">
              <a:rPr lang="en-US"/>
              <a:t>07/28/26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4-17T08:14:35Z</dcterms:created>
  <dc:creator>Brian Roberson</dc:creator>
  <dc:description/>
  <cp:keywords>Brief Samba Presentation</cp:keywords>
  <dc:language>en-US</dc:language>
  <cp:lastModifiedBy>Brian Roberson</cp:lastModifiedBy>
  <dcterms:modified xsi:type="dcterms:W3CDTF">1999-04-19T01:16:12Z</dcterms:modified>
  <cp:revision>13</cp:revision>
  <dc:subject>Overview of Options</dc:subject>
  <dc:title>Samba Integr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bstc.net/~brian</vt:lpwstr>
  </property>
  <property fmtid="{D5CDD505-2E9C-101B-9397-08002B2CF9AE}" pid="9" name="LinkColor">
    <vt:r8>16711782</vt:r8>
  </property>
  <property fmtid="{D5CDD505-2E9C-101B-9397-08002B2CF9AE}" pid="10" name="MailAddress">
    <vt:lpwstr>brian@bstc.net</vt:lpwstr>
  </property>
  <property fmtid="{D5CDD505-2E9C-101B-9397-08002B2CF9AE}" pid="11" name="NavBtnPos">
    <vt:r8>3</vt:r8>
  </property>
  <property fmtid="{D5CDD505-2E9C-101B-9397-08002B2CF9AE}" pid="12" name="Other">
    <vt:lpwstr>OLUG presentation</vt:lpwstr>
  </property>
  <property fmtid="{D5CDD505-2E9C-101B-9397-08002B2CF9AE}" pid="13" name="OutputDir">
    <vt:lpwstr>\\Beast\html\slides</vt:lpwstr>
  </property>
  <property fmtid="{D5CDD505-2E9C-101B-9397-08002B2CF9AE}" pid="14" name="Owner">
    <vt:lpwstr>PUBLIC-GNU-GPL</vt:lpwstr>
  </property>
  <property fmtid="{D5CDD505-2E9C-101B-9397-08002B2CF9AE}" pid="15" name="Purpose">
    <vt:lpwstr>OLUG Meeting, April 1999</vt:lpwstr>
  </property>
  <property fmtid="{D5CDD505-2E9C-101B-9397-08002B2CF9AE}" pid="16" name="Reference">
    <vt:lpwstr>Man Pages, source code</vt:lpwstr>
  </property>
  <property fmtid="{D5CDD505-2E9C-101B-9397-08002B2CF9AE}" pid="17" name="ScreenSize">
    <vt:r8>1</vt:r8>
  </property>
  <property fmtid="{D5CDD505-2E9C-101B-9397-08002B2CF9AE}" pid="18" name="ScreenUsage">
    <vt:r8>1</vt:r8>
  </property>
  <property fmtid="{D5CDD505-2E9C-101B-9397-08002B2CF9AE}" pid="19" name="ShowNotes">
    <vt:bool>0</vt:bool>
  </property>
  <property fmtid="{D5CDD505-2E9C-101B-9397-08002B2CF9AE}" pid="20" name="Source">
    <vt:lpwstr>Samba Man Pages, and various other documentation included in the samba source code</vt:lpwstr>
  </property>
  <property fmtid="{D5CDD505-2E9C-101B-9397-08002B2CF9AE}" pid="21" name="TemplateType">
    <vt:r8>1</vt:r8>
  </property>
  <property fmtid="{D5CDD505-2E9C-101B-9397-08002B2CF9AE}" pid="22" name="TextColor">
    <vt:r8>0</vt:r8>
  </property>
  <property fmtid="{D5CDD505-2E9C-101B-9397-08002B2CF9AE}" pid="23" name="TransparentButton">
    <vt:r8>0</vt:r8>
  </property>
  <property fmtid="{D5CDD505-2E9C-101B-9397-08002B2CF9AE}" pid="24" name="UseBrowserColor">
    <vt:bool>1</vt:bool>
  </property>
  <property fmtid="{D5CDD505-2E9C-101B-9397-08002B2CF9AE}" pid="25" name="VisitedColor">
    <vt:r8>10040268</vt:r8>
  </property>
</Properties>
</file>